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5BD3-A9F6-47DF-8710-C61F535C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6CE9-3D8A-4EE4-A700-891FCF6F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E552-8DD5-49B6-ACC3-8742C965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2968-0161-4E43-AC42-389F6C93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F84C-AD42-4E00-B17D-6B93701A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9698-EC39-4EB9-9B26-1B3286ED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8A25-FA61-4D82-8595-911E5CCB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91F8-352B-4AF7-B9A6-1C930994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5A62-FDDA-4371-AFF0-E8A58D84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7EF7-1077-4DD3-AA3B-4ABBE17D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CA02-3E5E-4EBD-AF8B-DD2F68DE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9CE0-9035-4D67-A214-9528B822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DFEC-EB96-4BE8-AD73-E43F7AF98E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07yc_SDPPT3.jpg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干细胞招商话术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HGH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招商话术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综合话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客人要打都去医院打啦，为什么不要跟你们合作？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答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我们有漫游者干细胞，主要针对亚健康患者，这是医院无法提供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我们有国际级细胞专家，可以按顾客需要亲自下去为他们服务，顾客方便您也方便，客人安全你也安全，而且不用担心客会流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针对重大疾病患者，需要输注征服干细胞，我们的干细胞是亚洲最大的细胞工厂直接培育的，不像很多医院有可能是“冷冻复苏”的，活性降低，有可能是自己实验室分离的，细胞数量达不到，影响效果，也有可能有安全隐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你们产品有没有卫生部批文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答：没有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目前中国开展干细胞研究和临床处在全球领先地位，国家鼓励大力发展干细胞产品，很以很多法规暂时没有完善，卫生部正在要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SCC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制定相关法规，包括：细胞制备标准，储运标准，临床使用标准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但是我们有细胞工厂按国际标准设定的“自检报告”以及“第三方医学检验报告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顾客打干细胞要不要签合同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答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漫游者干细胞是改善，改善慢性病和辅助治疗重大疾病的，无法承诺具体效果，要签约，也只能和顾客签：承诺我们的细胞产品都是国际正规资质的细胞工厂生产，产品经过工厂试验时自检及第三方药检合格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征服者干细胞输注，需签顾客同意书，干细胞输注不是产品，是个技术，像输血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骨髓移植一样，没有合同签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我手里的干细胞和高端项目很多的，为什么要和你们合作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答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摩斯干细胞主推漫游者干细胞，改善亚健康，治疗慢性病，使用简单方便，客人方便，你也放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我们的细胞是直接与细胞工厂合作的，不是实验室自己培育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我们公司做针剂已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年了，经验和服务是最强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摩斯干细胞安全特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干细胞有三大安全特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属性安全：干细胞是未分化成熟的细胞，表面抗原表达很微弱，人体免疫系统难以识别，所以不会出现排斥和过敏反应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制备安全：从国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MP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细胞工厂生产的不是从实验室培养出来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临床应用安全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SCC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全球临床案例成千上万例证明安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胚胎干细胞不是更好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答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胚胎干细胞用于临床比较少，来源也稀缺，也界各国都禁止研究和使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市场上不可能胚胎干细胞产品，说有也只是利用您的误解，他们的本意是：我们是从人胚胎中分离培育的干细胞，而不是真的“胚胎干细胞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干 细胞与羊胎素有何区别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文本占位符 2"/>
          <p:cNvGraphicFramePr/>
          <p:nvPr/>
        </p:nvGraphicFramePr>
        <p:xfrm>
          <a:off x="468360" y="1231920"/>
          <a:ext cx="820728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文本占位符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31920"/>
                    <a:ext cx="820728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摩斯干细胞与自体干细胞比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文本占位符 2"/>
          <p:cNvGraphicFramePr/>
          <p:nvPr/>
        </p:nvGraphicFramePr>
        <p:xfrm>
          <a:off x="826920" y="947880"/>
          <a:ext cx="7345440" cy="571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文本占位符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947880"/>
                    <a:ext cx="7345440" cy="57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你们的产品没效果怎么办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答：不可能。是人都会有效，身上多了几千万上亿个新增的细胞还没反应，那不可能，除非他不是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干细胞抗衰老，还能延长寿命吗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答：能，干细胞抗衰老属于“逆势抗衰老”（即，使机体恢复年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年前的细胞状态），而常用羊胎素抗衰老只能维持延缓容貌不老，却不能阻止机体衰老，经常使用干细胞，健康生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岁不成问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一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干细胞招商基本话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你们的干细胞安全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绝对安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漫游者干细胞是激活您自身的干细胞进行增殖分化而发挥作用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征服者是多潜能干细胞，输注它就像“输血”和“骨髓移植”一样，非常安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二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HGH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基本话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什么是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G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答：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GH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人体大脑垂体分泌的一种主控人体生长，发育和衰老的物质（蛋白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GH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个氨基酸组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GH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有对人体起什么作用？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答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GH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有三大作用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主控人体新陈代谢（蛋白质，脂肪，糖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内分泌系统的总司令和总调节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维持器官及脑组织的正常自序能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GH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为什么能抗衰老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答：人类衰老的根本原因是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GH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分泌减少和干细胞停止分化。补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GH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能起到逆转衰老的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GH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能达到怎样的效果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一个疗程，机体年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岁保持青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全面改善亚健康，精力充沛情绪高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全面改善内分泌，改善慢性病，预防癌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健豪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GH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有什么优势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技术优势：药剂一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药针一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品牌优势：全球最大药品生产厂商：辉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与传统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GH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比较有何不同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纯度高活性稳定，室温下可保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周以上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无杂质溶解迅速吸收好，不发生过敏反应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双腔药筒药针合一，药剂合一无须专业人士操作，真空密闭包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国际专利微针注射无痛苦，匀速进入皮肤无损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GH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与干细胞有何关系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答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GH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是重组人生长素，是一种激素，主要作用是调节机体机能。干细胞是一种细胞，两者在人体中的作用关系是相辅相成的，干细胞就像是士兵，负责打仗改造，而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GH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像参谋部，负责调度和调节，注干细胞同时增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GH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，能极大促进细胞分裂和新陈代谢，有助于机体加快修复和功能平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合作有何优势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答：三大优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项目优势：全亚洲最大的干细胞工厂生产，绝对安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技术优势：国际权威细胞专家，国家干细胞科研机构研发，方便顾客使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经验优势：十年针剂操作经验，顶尖专家销售团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什么是干细胞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答：又称为树干细胞，是具有自我更新我分化潜能的原始细胞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三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综合招商基本话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如果我们合作了，你们的人员会留在店里帮我们销售多久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答：又不是护肤品，不可能有长期驻店的，我们主要帮你指导铺垫，指导推广，指导销售，没有必要长期驻店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做你们这个项目，会不会影响我们店内的经营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答：不会，只会更上一层楼，若你不做，别人都做了，到时真会影响你的经营了，你阻止不了客人的脚步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怎么卖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我们的专家全是杀手级的，只要您全力配合我们的工作做好前期的铺垫，一定能卖出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你们公司有何支持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推广服务（店面推广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，灯箱，展板，内刊等，终端会，沙龙会，大客户经理全力配合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产品售后（跟踪两年制，专家两个月复检，半年回访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如何向顾客介绍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答：我们是有方法与流程的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培训美容师话术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铺垫：科普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视频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销售：报价单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案例视和图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成交：专家下店检测注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怎么合作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答：分为联销合作和经销加盟，前期建议您与先我们联销合作，详细合作条款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加盟合作政策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上都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国家未出台干细胞政策，暂不考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答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在中国是允许先临床再制定标准的，卫生部已经下达文件要求我们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SCC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来制定相关如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干细胞制备标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等各项管理法规，以后中国的干细胞产品生产标准是跟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SCC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来走的。跟我们合作就是等于在按着法规操作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干细胞起什么作用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答：细胞抗衰，调节机体亚健康状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表现如下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天能感觉睡眠，食欲，精神与精力大大改善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个月皮肤紧实，细腻有弹力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个月年轻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岁，精力旺盛，内分泌平衡等，调节免疫机能不容易患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干细胞的材料是从哪里来的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答：人类胚胎，脐带，脂肪中都可提取，主要是国家脐带血库中来提取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干细胞怎么使用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答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个月为一疗程，方便输注，可由专家亲自输注，也可由任何医护人员输注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干细胞为什么可以抗衰老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答：因为人的衰老的根本原因是活跃的干细胞减少，和人类生长激素分泌减少。只有补充和激活干细胞或补充人生生长激素才能从根本上逆转衰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干细胞打出问题怎么办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答：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首先，出了问 题，我们会第一时间派人跟踪解决，其次，我们建议商家配合调查原因，从理论上讲，干细胞产品是很安全的，他的问题可以是其他原因造成的或者常见的基本问题，安慰客人不用担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注射漫游者干细胞因子是激活人体本身的干细胞进行增值分化，绝对安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输注征服者干细胞出问题，我们有全中国最好的国际级细胞临床专家，能处理一切问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你们干细胞怎么这么贵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答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干细胞是当前世界顶尖技术，研发和生产成本奇高，使用成本高很正常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针对客人讲，干细胞不但能改善亚健康，更能治疗疾病，特别是一些传统医疗手段无法治愈的疾病，这种价值无法估算的，那绝对是物有所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其实，干细胞产品相对市面上很多高端产品并不贵，比如：羊胎素注射一个疗程动辄也是几十万到上百万，只是我们销售人员的销售观念没有提升，无法想像有钱人的消费观念，这些我们能提供系统的“高端销售观念培训和训练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uang</cp:lastModifiedBy>
  <dcterms:modified xsi:type="dcterms:W3CDTF">2012-10-17T07:17:47Z</dcterms:modified>
  <cp:revision>103</cp:revision>
  <dc:subject/>
  <dc:title>幻灯片 1</dc:title>
</cp:coreProperties>
</file>